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03F7B-E93A-4779-91A8-91C2848C0D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C82B2-25B1-4D0A-B2B4-505CC65D1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84386-E2E2-4FFF-A886-C45BA332EE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FB54B-F418-4014-8670-D0602FEE1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CB3-9B3B-473D-AB35-7BFA2958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AC4F-E70E-423D-B6B6-11ABDC81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3E91-C8DD-4998-AF05-8318428D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9C2-383C-480D-A26C-8C79E368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6966-0247-4E5F-A2D3-57744F55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B756-792D-44B0-B5B1-8EE2DF67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A6EB-6EE1-4406-A08E-A108B4C5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1358-F5BF-473A-8F2A-DA70E05D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79DF-D0CF-4547-892B-914F0525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B27B-150E-49DD-BCAD-74527658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9A90-BCCF-482B-A09C-FF550450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770-590A-4493-BF3D-08AFD24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EE63-7163-4B93-9705-CB94E6D8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84EB-9797-4AFF-9B35-998CF6BB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AE6A-CFEA-4BAC-A792-A0107695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5191-D84E-40FA-AE9F-975AAFB9A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F3EB-B312-4A4C-A8C8-FD9FBB14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A152-E8EA-41E3-9C77-AD1331DB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AE6E-E94C-40B3-85A9-B279AEE1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35E8-79F4-411F-AC47-27E4105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25B2B-DDEB-46A3-B91A-2D630091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B000-78D8-49DB-97BC-95EACA58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480B-F40B-42D7-A872-B1432EB6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5BBF-0C44-417D-840F-5DC8577B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5F71B-F809-43F3-9187-AAE5CE72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3498C-5650-4D43-8629-58D4D9F0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843C-A222-4E21-86E2-4F466AA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6396-4FE4-483A-8110-64E22CDC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3090E-AB64-44D2-B566-DD277289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22958-8FE4-44A1-B7B9-80A29D52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E724D-2A32-4853-8D41-F9E8D0CE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BAF73-DD40-4563-94EA-CC1314CC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C28C-0F75-4A00-9F03-4BFF96B7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E47-D0DC-4E1F-80EA-A964E4C1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A885-9AC7-4FF8-96A9-9B89B2A3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F6742-59CC-444C-BBCD-441436C1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B419-5A08-4CB5-9F6F-8B2A4B2F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86A41-59D2-4E5F-9C03-8495B24B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E8078-AFB6-4321-9DD1-FD37FF52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A4C53-4AAF-47D2-AA3A-04BB79D6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91843-2EF1-4507-A717-E5BB843E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7B9F-06E9-44D6-A4E6-70910961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2293-72FB-49AD-8A51-53CE6996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2DF4C-1C80-41FC-8A55-5945A245D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54C-137A-4B5F-AB12-C66A5D2A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E7755-3D7E-4FF9-96CC-AB917B887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D6C2-4FF9-4F01-8787-279C9D85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6DE33-A1DB-40AD-B7A5-A65E3D4C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E64F9-5A74-42EA-9FA4-63900E84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26D38-EF1A-4764-919B-622BEA3E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035B1-2A5B-4589-A3C3-1FE27EBC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0364D-3DD4-4330-9ECB-0158E7E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BFE72-739E-4CD4-A964-B3F3ADAB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D14D-EC2B-4F12-AD7F-C85E19D1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09F8C-13FC-4970-8489-AB9C3A9E9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37C-53E6-4B29-AC86-B04F8AFA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6DF70-168B-4C13-8926-252F1F84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842E9-8A57-42F2-9977-6ACC933E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12370-B570-4AF4-8FBD-D6C959F4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4359A-8987-4598-93FE-F610CDC7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7F11C-896D-4BE2-9A4C-0D2AA2B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EEA33-45D1-4D09-AA7B-7DFC697C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2CEDC-5A79-4234-B644-5F6F99E1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47FD6-77D7-4EFD-9450-3AB1910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8B314-FF00-45A2-ACB9-291AAD3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3004A-1F30-416E-BBCB-570338A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625-D8FC-4CEF-A958-F5BC151D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CD604-E185-47B1-AC02-2F916236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38430-0789-47BD-A6A0-138AA85B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829C9-6D2B-4714-8526-FC22DA76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EA291-8577-4F7F-9655-FE8E80B4B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038F9-A6F9-409B-A465-58B53B7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E9672-55FA-472F-9E4F-F6670922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EAA6B-755A-4255-B6FB-BA2AABC3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44A97-09C0-455A-9142-0357A491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3F463-5B7F-47D3-9718-3E37460C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E6EA2-A3AD-4798-83A6-B6C0F447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531-17F3-41EA-B225-5D32946A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895D5-0B54-48E3-BD3F-736D879E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4B210-756B-4F55-8A5D-A6DD27A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0D27-71D5-4CE3-A3D3-F337DD12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D2DBB-8A68-47CD-A9F8-37124757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6AEF6-9937-4D9F-BF9E-269B0884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C86-FCA6-422F-AFE0-96BB4A6E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33F217-F4CC-4325-92AF-5DAE0F795C6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B56E9-5E65-427C-9808-1F039250F8A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80831F-7598-4BAA-A04C-83424AE2D4A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A8CC5C-E03C-47C1-BFA4-05EAEC2D086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1DFEC-BB29-4046-A16F-10E8D842AFE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1B046-54DB-4C12-9D76-D39DFE38185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554B1-0C6E-4E45-B8A3-70B879213B3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C9992-036D-4627-9AB5-DF34AE415C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B1AB1-2691-48CA-9C9C-B4153E373BE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ED0B62-722C-4417-B751-BD6BD48CEF3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18D168-A6C4-42F9-B5DE-7506460638C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DE02E-75CC-4FA7-B49D-50AF03FD546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45F21-20FB-45E7-A760-3082636EC32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37B7D0-695C-41A9-9261-D5ABA02CFE8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youtube.com/watch?v=1ZIK6Ua20J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ZIK6Ua20JA&amp;feature=channel_page" TargetMode="External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3068640"/>
            <a:ext cx="7407360" cy="147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son 7: Stomach, pancreas, liver and gallbladder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115640" y="4869000"/>
            <a:ext cx="74055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-function and structure of these orga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w it all fits together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-507960" y="1447920"/>
            <a:ext cx="101599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900000" y="-258840"/>
            <a:ext cx="7748640" cy="12794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2"/>
          <a:stretch/>
        </p:blipFill>
        <p:spPr>
          <a:xfrm>
            <a:off x="5796000" y="4025880"/>
            <a:ext cx="2673360" cy="2832120"/>
          </a:xfrm>
          <a:prstGeom prst="rect">
            <a:avLst/>
          </a:prstGeom>
          <a:ln w="0">
            <a:noFill/>
          </a:ln>
        </p:spPr>
      </p:pic>
      <p:sp>
        <p:nvSpPr>
          <p:cNvPr id="372" name="1 CuadroTexto"/>
          <p:cNvSpPr/>
          <p:nvPr/>
        </p:nvSpPr>
        <p:spPr>
          <a:xfrm>
            <a:off x="900000" y="692280"/>
            <a:ext cx="7929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ns your blood (removes toxin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s energy in the form of a sugar call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es blood concentrations of fats &amp; glucose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s and maintains the balanc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rm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from the breakdown of amino acid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r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process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itamins A,D,E &amp; 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stro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ld red blood ce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The Gall Bladder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liver produces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i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up to 1.5L per day!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, and stores it in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Gall Blad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hick green liqui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eaks fat into smaller droplets to ease diges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kind of digestion does bile perform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echanical or Chemical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all bladder problems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434960" y="1447560"/>
            <a:ext cx="7499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all stones can form, usually from hardened cholesterol pie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7" name="Picture 3" descr="gall1a.jpg"/>
          <p:cNvPicPr/>
          <p:nvPr/>
        </p:nvPicPr>
        <p:blipFill>
          <a:blip r:embed="rId1"/>
          <a:stretch/>
        </p:blipFill>
        <p:spPr>
          <a:xfrm>
            <a:off x="3029040" y="2852640"/>
            <a:ext cx="4133880" cy="270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2"/>
          <a:stretch/>
        </p:blipFill>
        <p:spPr>
          <a:xfrm>
            <a:off x="1324080" y="6066000"/>
            <a:ext cx="7626240" cy="66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Pancrea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434960" y="1143000"/>
            <a:ext cx="7499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nected to the duodenum by a du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ancreatic juice ha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dium bicarbonate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neutraliz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e acidic chy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 Enzymes to further break down f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1. Pancreatic amyl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c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lto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. Tryps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pti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. Lip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617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lycerol and 3 fatty ac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87280" y="1080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More </a:t>
            </a:r>
            <a:r>
              <a:rPr b="1" lang="en-US" sz="3500" spc="-1" strike="noStrike">
                <a:solidFill>
                  <a:srgbClr val="572314"/>
                </a:solidFill>
                <a:latin typeface="Gill Sans MT"/>
              </a:rPr>
              <a:t>Important </a:t>
            </a: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pancreatic functions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187280" y="90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gulation of blood sugar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ow long do you typically go without eating in 24 hour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But your cells need a steady supply of blood glucose to function… not too much, not too littl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How do you manage thi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3 CuadroTexto"/>
          <p:cNvSpPr/>
          <p:nvPr/>
        </p:nvSpPr>
        <p:spPr>
          <a:xfrm>
            <a:off x="1020600" y="5838840"/>
            <a:ext cx="794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http://www.bbc.co.uk/schools/gcsebitesize/science/21c_pre_2011/food/diabetesrev1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8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26560" y="1093320"/>
            <a:ext cx="3816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oimmune dis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ncreas cannot make insul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 be controlled via regular insulin inj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3" descr="insulin-formation-during-type-1-diabetes.jpg"/>
          <p:cNvPicPr/>
          <p:nvPr/>
        </p:nvPicPr>
        <p:blipFill>
          <a:blip r:embed="rId1"/>
          <a:stretch/>
        </p:blipFill>
        <p:spPr>
          <a:xfrm>
            <a:off x="117360" y="3147840"/>
            <a:ext cx="4826160" cy="3937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5651640" y="4005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5"/>
          <p:cNvSpPr/>
          <p:nvPr/>
        </p:nvSpPr>
        <p:spPr>
          <a:xfrm>
            <a:off x="1072440" y="17640"/>
            <a:ext cx="3652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 I diabe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ually juvenile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2 CuadroTexto"/>
          <p:cNvSpPr/>
          <p:nvPr/>
        </p:nvSpPr>
        <p:spPr>
          <a:xfrm>
            <a:off x="5005440" y="17640"/>
            <a:ext cx="3929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 II Diabete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sually adult on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4 CuadroTexto"/>
          <p:cNvSpPr/>
          <p:nvPr/>
        </p:nvSpPr>
        <p:spPr>
          <a:xfrm>
            <a:off x="4730760" y="1076400"/>
            <a:ext cx="4413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ncreas does not make the correct amount of 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ten controlled by diet and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ugs can help increase sensitivity to ins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8" descr=""/>
          <p:cNvPicPr/>
          <p:nvPr/>
        </p:nvPicPr>
        <p:blipFill>
          <a:blip r:embed="rId2"/>
          <a:stretch/>
        </p:blipFill>
        <p:spPr>
          <a:xfrm>
            <a:off x="4946760" y="3571920"/>
            <a:ext cx="4235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Digestion Questions #1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143000" y="9853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ain the step by step process that occurs wh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3240" indent="-426960">
              <a:spcBef>
                <a:spcPts val="550"/>
              </a:spcBef>
              <a:buClr>
                <a:srgbClr val="3891a7"/>
              </a:buClr>
              <a:buFont typeface="Gill Sans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meone chokes on a piece of food. What goes wrong? (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3240" indent="-426960">
              <a:spcBef>
                <a:spcPts val="550"/>
              </a:spcBef>
              <a:buClr>
                <a:srgbClr val="3891a7"/>
              </a:buClr>
              <a:buFont typeface="Gill Sans MT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 are drinking water and accidentally laugh, causing the water to come out of your nose.  What goes wrong? (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3240" indent="-426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ain all the types of digestion that occur in the mouth. (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hat possible problem could lead to an esophageal ulcer? Explain what would happen to cause this. (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plain all the types of digestion that occur in the stomach. (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269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omeone had a severe ulcer, would it be possible to remove his or her stomach and replace it with a bag? What properties would this bag need to have in order to function? How would that person’s diet need to change? (3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aching the stomach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29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olus arrives at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cardiac sphinct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he “door” at the top of the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de of musc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Heartburn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ing of the cardiac sphincter allowing food (soaked in stomach acid) to enter the esophagu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1090440" y="4281480"/>
            <a:ext cx="2695680" cy="250524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3840480" y="6211800"/>
            <a:ext cx="50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ea typeface="ＭＳ Ｐゴシック"/>
                <a:hlinkClick r:id="rId2"/>
              </a:rPr>
              <a:t>http://www.youtube.com/watch?v=1ZIK6Ua20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icture 5"/>
          <p:cNvSpPr/>
          <p:nvPr/>
        </p:nvSpPr>
        <p:spPr>
          <a:xfrm>
            <a:off x="4000680" y="4357800"/>
            <a:ext cx="284796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Stoma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big is your stomach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ut 1.5 to 2L in an adult human (300L in a cow!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7" name="Picture 3" descr="rabbit_stomach.jpg"/>
          <p:cNvPicPr/>
          <p:nvPr/>
        </p:nvPicPr>
        <p:blipFill>
          <a:blip r:embed="rId1"/>
          <a:stretch/>
        </p:blipFill>
        <p:spPr>
          <a:xfrm>
            <a:off x="2197080" y="2590920"/>
            <a:ext cx="5651640" cy="406224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219320" y="5334120"/>
            <a:ext cx="97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is is a rabbit 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"/>
          <p:cNvPicPr/>
          <p:nvPr/>
        </p:nvPicPr>
        <p:blipFill>
          <a:blip r:embed="rId1"/>
          <a:stretch/>
        </p:blipFill>
        <p:spPr>
          <a:xfrm>
            <a:off x="6808680" y="3259080"/>
            <a:ext cx="2791080" cy="20192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920" y="-1353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e Stomac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1008000"/>
            <a:ext cx="5738760" cy="60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ree layers of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muscle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 which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mechanically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100" spc="-1" strike="noStrike">
                <a:solidFill>
                  <a:srgbClr val="000000"/>
                </a:solidFill>
                <a:latin typeface="Gill Sans MT"/>
              </a:rPr>
              <a:t>ix up and break up the food</a:t>
            </a:r>
            <a:endParaRPr b="0" lang="en-US" sz="21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food is mixed with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gastric juice 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hydrochloric aci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The acid kills germs in the food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Proteins are broken down into peptides by the enzyme 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EPSI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Food spends about 3-4 hours in here.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Gastric juice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epsinogen + Hydrochloric acid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Pep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epsin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proteins </a:t>
            </a:r>
            <a:r>
              <a:rPr b="1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500" spc="-1" strike="noStrike">
                <a:solidFill>
                  <a:srgbClr val="000000"/>
                </a:solidFill>
                <a:latin typeface="Gill Sans MT"/>
              </a:rPr>
              <a:t> peptid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2"/>
          <a:stretch/>
        </p:blipFill>
        <p:spPr>
          <a:xfrm>
            <a:off x="6886440" y="549360"/>
            <a:ext cx="2637000" cy="21114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6" descr=""/>
          <p:cNvPicPr/>
          <p:nvPr/>
        </p:nvPicPr>
        <p:blipFill>
          <a:blip r:embed="rId3"/>
          <a:stretch/>
        </p:blipFill>
        <p:spPr>
          <a:xfrm>
            <a:off x="6756480" y="5278320"/>
            <a:ext cx="289548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042920" y="115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 types of cells in the stomach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ucus cel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cu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protec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e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arietal cel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rete HCl with pH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ills bacteria and helps break food dow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eptic cell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rete pepsinogen to make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eps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1042920" y="3613320"/>
            <a:ext cx="7499520" cy="3244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5580000" y="4422600"/>
            <a:ext cx="1494000" cy="4939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3"/>
          <a:stretch/>
        </p:blipFill>
        <p:spPr>
          <a:xfrm>
            <a:off x="7667640" y="4422600"/>
            <a:ext cx="125568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TextBox 21"/>
          <p:cNvSpPr/>
          <p:nvPr/>
        </p:nvSpPr>
        <p:spPr>
          <a:xfrm>
            <a:off x="6948360" y="4708440"/>
            <a:ext cx="5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4"/>
          <a:stretch/>
        </p:blipFill>
        <p:spPr>
          <a:xfrm>
            <a:off x="5154480" y="6338880"/>
            <a:ext cx="1517760" cy="4935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5"/>
          <a:stretch/>
        </p:blipFill>
        <p:spPr>
          <a:xfrm>
            <a:off x="7667640" y="5959440"/>
            <a:ext cx="1335240" cy="4939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6"/>
          <a:stretch/>
        </p:blipFill>
        <p:spPr>
          <a:xfrm>
            <a:off x="1763640" y="6207120"/>
            <a:ext cx="2530440" cy="4935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7"/>
          <a:stretch/>
        </p:blipFill>
        <p:spPr>
          <a:xfrm>
            <a:off x="5499000" y="5227560"/>
            <a:ext cx="828720" cy="5796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8"/>
          <a:stretch/>
        </p:blipFill>
        <p:spPr>
          <a:xfrm>
            <a:off x="5181480" y="4826160"/>
            <a:ext cx="317520" cy="1627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"/>
          <p:cNvPicPr/>
          <p:nvPr/>
        </p:nvPicPr>
        <p:blipFill>
          <a:blip r:embed="rId9"/>
          <a:stretch/>
        </p:blipFill>
        <p:spPr>
          <a:xfrm>
            <a:off x="2556000" y="4567320"/>
            <a:ext cx="163332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8548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72314"/>
                </a:solidFill>
                <a:latin typeface="Gill Sans MT"/>
              </a:rPr>
              <a:t>Why doesn’t the stomach digest itself?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00080" y="1213920"/>
            <a:ext cx="59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Cl could eat through the stom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pped by the mucus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psin could digest protein in the stomach ce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psin is only made when pepsinogen mixes with H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7972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pped by the mucus lay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715080" y="1417680"/>
            <a:ext cx="1857600" cy="2104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2"/>
          <a:stretch/>
        </p:blipFill>
        <p:spPr>
          <a:xfrm>
            <a:off x="6953400" y="4143240"/>
            <a:ext cx="19810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n things go wro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28840"/>
            <a:ext cx="7499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cterial infe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lls can’t make muc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ause ulcers and stomach canc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1397160" y="5929200"/>
            <a:ext cx="74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http://www.youtube.com/watch?v=1ZIK6Ua20JA&amp;feature=channel_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5" descr=""/>
          <p:cNvPicPr/>
          <p:nvPr/>
        </p:nvPicPr>
        <p:blipFill>
          <a:blip r:embed="rId2"/>
          <a:stretch/>
        </p:blipFill>
        <p:spPr>
          <a:xfrm>
            <a:off x="5238720" y="3071880"/>
            <a:ext cx="3319560" cy="26431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"/>
          <p:cNvPicPr/>
          <p:nvPr/>
        </p:nvPicPr>
        <p:blipFill>
          <a:blip r:embed="rId3"/>
          <a:stretch/>
        </p:blipFill>
        <p:spPr>
          <a:xfrm>
            <a:off x="546120" y="3071880"/>
            <a:ext cx="1778040" cy="17794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4"/>
          <a:stretch/>
        </p:blipFill>
        <p:spPr>
          <a:xfrm>
            <a:off x="2571840" y="381960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1434960" y="64260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eaving the stomach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ym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 liquid food that leaves your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And enters the small intest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82600">
              <a:spcBef>
                <a:spcPts val="550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trolled by the PYLORIC SPHINCTE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82600">
              <a:spcBef>
                <a:spcPts val="601"/>
              </a:spcBef>
              <a:buClr>
                <a:srgbClr val="feb80a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or” of muscle at the bottom of the stoma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5" descr=""/>
          <p:cNvPicPr/>
          <p:nvPr/>
        </p:nvPicPr>
        <p:blipFill>
          <a:blip r:embed="rId1"/>
          <a:stretch/>
        </p:blipFill>
        <p:spPr>
          <a:xfrm>
            <a:off x="5415120" y="4143240"/>
            <a:ext cx="3338280" cy="2500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1928880" y="4386240"/>
            <a:ext cx="21621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7:49Z</dcterms:created>
  <dc:creator>Lisa Marcos</dc:creator>
  <dc:description/>
  <dc:language>en-US</dc:language>
  <cp:lastModifiedBy>laboratorios</cp:lastModifiedBy>
  <dcterms:modified xsi:type="dcterms:W3CDTF">2013-04-16T19:06:23Z</dcterms:modified>
  <cp:revision>62</cp:revision>
  <dc:subject/>
  <dc:title>The Digestive System Biology 12</dc:title>
</cp:coreProperties>
</file>